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05E-CA3A-4737-B456-5A94881E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29F-B8F0-4AEA-9226-FDC75C11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1C7-A919-485D-9EDE-18C0177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872-5D15-4433-801D-086D6232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192-840A-494A-A488-D8BC1F6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112-853C-47BF-98CF-AC66A13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3FA-F1C1-4556-A85B-F1DF619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EEA-128B-4409-A4C5-BBA38801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C41-5189-4B50-84E0-B8115FBD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3FC-2DD2-4463-B0A9-7675A54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390-C265-4CB8-A3DA-E82F849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E6F-55E7-4C91-90EB-F0B1ECA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DE79-BA7D-4A56-AA45-0C569350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08:21Z</dcterms:created>
  <dc:creator>Grupo Editorial</dc:creator>
  <dc:description/>
  <dc:language>en-US</dc:language>
  <cp:lastModifiedBy>Grupo Editorial</cp:lastModifiedBy>
  <dcterms:modified xsi:type="dcterms:W3CDTF">2001-09-27T15:11:29Z</dcterms:modified>
  <cp:revision>1</cp:revision>
  <dc:subject/>
  <dc:title>Sin título de diapositiva</dc:title>
</cp:coreProperties>
</file>